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8CAD-27AD-4BCD-B0D7-5034EEB60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14ED-4003-4D8C-852E-E07860C3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EB11-4B18-4D7A-881D-48CAAF82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E6F1-0A8F-406F-BC5D-DD267C98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7C6-ABBC-4EA9-A549-2B2BCD8A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472F-1AAB-42D0-88FD-C277B642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88A1-8F32-4C01-9D3C-1729ECFB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952D-09DE-4795-94B0-8463D4D5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3A95-EB95-49C7-8A00-8863A2EE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7FD1-025E-40D6-B441-382796F6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EAE4-A4BC-42E7-8D83-D240DF72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C234-5C0F-4FFC-8197-BCA35BB9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85B7-7E9F-4F10-A98D-2703C0A7F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Prayer after Commun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calls us together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aise t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makes us one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has forgiven our s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aise t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gives hope and freed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se Word is proclaim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aise t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is revealed as lover</a:t>
            </a: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alone has calle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refore we offer all that we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ll we shall bec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ccept, O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ur sacrifice of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ccept our thank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all that we 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hands were empt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you filled th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2:58:10Z</dcterms:created>
  <dc:creator>Anon Anon</dc:creator>
  <dc:description/>
  <dc:language>en-US</dc:language>
  <cp:lastModifiedBy>Anon Anon</cp:lastModifiedBy>
  <dcterms:modified xsi:type="dcterms:W3CDTF">2005-08-09T05:07:23Z</dcterms:modified>
  <cp:revision>12</cp:revision>
  <dc:subject/>
  <dc:title>Prayer after Communion (SLD-2)</dc:title>
</cp:coreProperties>
</file>